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0A3-425F-4F55-AF38-711DED59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9E9E-5514-4BAD-BE9C-B6040C23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4383-35F4-405C-B5A6-4F0FDCBB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ACA-B373-44E3-B775-C541F69A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FD86-AD60-4A0B-B43F-0C8A5590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BD7B-8F74-4EAA-A9A7-4A1BA9B1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4CBD-3689-45C7-AF18-89CCC09C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CCC6-F09F-4C77-8570-B527A6F4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6B04-67F0-4813-B207-FD2808F5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64A8-D520-427A-9709-CE5ED7DF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1846-EAD9-4DB2-B88D-4F3F557F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E73-4E49-4CD3-96B4-8D418B76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E4E8-E882-4F30-B676-697FFDB9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5CAC-DECF-40E2-B4CB-2F065DC2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04AF-C8A3-4C2F-AE30-2A4B0EA2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79B3-6BF6-4CA5-8546-07327902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BADA-3D58-4F73-A19E-FFF7EF97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DD9-DEBC-4D47-A3F3-3C6B2AB0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E2A-D0FE-4151-B0B0-D8A1D348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093-697B-406A-82EE-64EE0AA3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BBA-25D4-4771-AA03-D2D7DFA5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4F6-D874-48A6-A062-A70C458B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3DF-9B6F-4106-A5DA-AFD473E8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951-3288-446B-A5F9-BCD7656B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4576-A8FF-4E4C-9CD5-B755C8E9E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AAA4-10F9-4F7E-BB69-1CA5238ABC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Using Technology as a Tool to Preserve Our Native Culture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oliw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chnology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a) The application of science, especially to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dustrial or commercial  object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b) Electronic or digital products and system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ed as a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http://www.webopedia.co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reservation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ety of way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si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dio Recording (CD’s, tapes, etc…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deos (DVD’s, movie’s, etc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ftware (downloadable, create your own, etc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eras (digital, photostory, etc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ebsit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est way to preserve our culture, due to the easy access and variety of mat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usands of informative sites are available with the touch of your compu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fun and interesting sites that are geared toward teaching children about native cul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ulture.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ww.civilization.ca/tresors/ethno/index_e.htm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native-languages.org/home.h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greatdreams.com/native.ht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udio Recording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necessity f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ytell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Video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D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oftw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understand and speak our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intertribal.net/NAT/NATribes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ing Native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ing portals of our heri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eloquent-systems.com/products/heritage_suite.s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ame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ngest running technology for preserving native cul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tos have been around since the early 180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at importance in visual 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Using Technology as a Tool to Preserve Our Native Cultur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to Preserve the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l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our Native Cul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5:37:46Z</dcterms:created>
  <dc:creator>Paula Pelletier</dc:creator>
  <dc:description/>
  <dc:language>en-US</dc:language>
  <cp:lastModifiedBy>Paula Pelletier</cp:lastModifiedBy>
  <dcterms:modified xsi:type="dcterms:W3CDTF">2007-03-01T20:24:43Z</dcterms:modified>
  <cp:revision>6</cp:revision>
  <dc:subject/>
  <dc:title>Using Technology as a Tool to Preserve Our Native Culture</dc:title>
</cp:coreProperties>
</file>